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8E8-08C3-41E4-82DE-67395F3B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873-AF51-4A41-AEE8-8E02F4B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F3734-4B6B-437D-B28A-63F2675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B0DC4-9E7E-4E52-9FE6-608B4FBF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A4D5-6148-431A-A27D-0DB5EA45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83376-69B8-4D0D-A1CC-2F9F34C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CFAE-771D-46FF-8FBB-1C6EA57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34EB6-0909-493A-9734-A1DF609E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41CF2-3159-4595-9AF3-D6A2837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624CB-D89A-4184-BBCA-06070A7E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FA3B0-4423-4E39-887C-27208F5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D3777-BC91-449F-A688-D1183C3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7ED-D8C0-4262-9657-A3B76FE9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C042-A06E-4A4D-9C45-937AA48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9A77E-AAC2-40A5-9548-C87DC3D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6284F-A018-4058-8666-40F51B6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4290-9F29-42B0-84E8-A604854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88899-1E56-4D16-ABC1-768F708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8B4BC-F00C-4102-BB9D-7C74326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570BC-C7A1-46E4-A53F-0577265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6A3E4-3417-49C2-820C-85579C0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8F83A-3D8E-4C68-A831-C782E13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4F0E-5B66-467B-B882-445CC06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85B-9791-4338-8522-5F06AA1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B467-BE31-47FE-82AF-FA82CF08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A1B5C-BFB8-4B8C-AF7C-E64DEF04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0BA5C-B836-4B49-83D4-86B3784E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B6430-DA6C-41A9-8C69-8D6231BD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60A39-CB7B-4954-B9A2-8AD57EC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052F-9EAF-430B-87E0-04EB6BE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2104-4D34-4432-87D9-55BC2C0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99C16-D7EC-49DA-929E-B815B25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AA47-EF27-4260-A494-906E103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9687-F668-4D3B-8E1E-9149881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499-75E8-4A21-BB1B-E6A061FE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189E-E427-4901-A67D-CE83CB3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B87B-BDBB-4E6B-92C4-FE5A1230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9EFAC-68D3-4712-86E6-96042653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8A2B7-ADF9-4A21-A3B3-F865F85C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85FEF-E2D3-4D9B-B747-33431CDF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8BECF-02DD-4CA0-952D-B5D2190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5A5D-0091-480C-A356-0C0EC580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81077-9535-4DED-85CA-CE9F78BE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450DE-9258-42C5-B799-653B27E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697BC-C216-4937-9305-206E727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3BF4-6E4A-4610-8ED6-5CC93030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2BF16-A7E1-4699-BF3D-15196B4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82B84-0135-4790-A38D-B4005B2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E7EF5-A635-414C-BB2A-F05EBD9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5806C-E3B0-4848-AFA0-52D5832D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13098-83BE-499E-93E3-644A5A59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5416-E361-4BDD-AF3E-3BE2841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76E-BB97-4C22-B262-217A417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75F6-342A-4ECA-B5E2-9067A6ED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3B97-6383-4CBC-A0EF-1A12B02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F55-C574-44D7-B179-A5B4005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88E-2359-474A-AAB5-3ADA186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963D-EB9A-4F93-8A64-9F546E23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CBE0-C847-4363-8864-4C404D6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E9A7-71ED-4F23-A731-AA9D8497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031D-26E6-4E85-83AA-DC5E1D1E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429-A82C-4C07-972C-9BCBF304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826E-A3CB-4F5D-928D-504D36E1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4A0E-BB59-4FD6-9035-FE16D58F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59E9-D26D-4DA1-8F01-482B718B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8219-AE11-492E-A381-C044B00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ADCF-375E-4AE3-B576-14EB86A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948-7484-4CA7-80F8-E126A789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D92E-F375-4F6D-A8EC-EC2F99F3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F72F-DDCE-4854-B241-E25A8A3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2EC2-636B-45C1-86A4-D50694F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3655-C601-4314-B670-DE36D34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B7B2-4B22-47A8-8691-2CF16CD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7A56-6894-4F11-BDFC-2B2FC703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FE40-8DB4-4EAB-9151-768B141F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0F42-36E5-4C11-A297-DB1A9598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C481-5D35-424F-A07E-95FA05B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6B3B-B7D2-4768-A3CE-859436D9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894-8076-4BC5-A431-3A6CA9D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E230-C8FF-4679-9654-7587C84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54F4-EB3B-409F-B379-87634BE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17ED-2CB9-4109-8038-EA077A7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7C09-799D-44C1-91D6-F4249FE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4779-72A8-42BB-AC72-948B178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6D8B-9D6A-4E71-907A-D2C4FD1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8A95-549E-485F-89C9-0C90570F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AEA5-EB86-427B-9B3D-7550A7F0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4919-00A7-4499-B0B3-34048224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04E9-D15A-4075-8D40-A5688614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299-C5EC-4CB2-8E2E-0423A05F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B973-1011-4A0D-9F20-C01B743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8CBEB-0EFB-42FF-9952-7C72666D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227A-7541-4264-B6C1-E4F6F3B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CFFF1-FD40-4540-9E9A-7A45DAE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34071-7AAA-4DE2-BE8A-9CA9405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B070-4792-4C30-844E-1B941F0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471F-AF2C-485D-A441-62773FE0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CE89-BC95-4C0C-87CD-B21A731E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C85F-244B-4ACF-94C4-6ED9701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E0E5-9C5D-4369-BB4F-E6373F5B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744-10C0-4A37-A9D9-BCB2BE2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6DE6-A98E-4B70-A708-68E4104E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0896-EFB6-4E8C-9FDE-BAA4C73C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E9D9-B984-4EE1-B73A-A5F0873A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A6B9-6C72-4218-8A57-6804158C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04FC-6BEA-4CB6-BCC2-C97D6B0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4254-FAB6-4215-9BE7-DDCCB1A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85BF-5495-4C8F-9FD9-63F1501C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1B46-34C1-435D-AF44-B0A81AE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6FB1-1264-411A-A342-6A7B99E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A08C1-802C-43C0-A559-65D66DCC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F3C-CA86-43B0-8D2E-D6B1053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4BBC-E8B1-43FC-8663-BCB2B00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6C9F-EF73-4D8B-889D-EC14669D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BDDF-AC31-4308-93A2-DEE0666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A5DE-3245-40D0-B906-E90C9D73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777F-F21C-41ED-9610-796F5068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A156-48D4-4AB8-947F-FE8055A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04D9-B9CF-4E27-9E24-DE6EF7C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C438-7DD6-4A13-A6B1-E4E06D2C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C4BB-B0E9-413A-93C6-52C1814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DDB8-AB90-4E7F-967A-4199E232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73E-7394-440B-891D-8DBB379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FA84-A043-4868-A603-CCC7AA6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0D9A-E810-4840-B6C4-E418EE0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7B49-0B37-4434-8BCC-B4AED59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C0B9-D338-45D6-BC2F-0B3601AB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C969-D05E-493D-B70A-2A67B5AC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81BB6-FAF6-47AF-B497-EF14B849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C58B-B5CF-4CDF-97AA-5F74EE1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33F0-F24C-4F1F-99A1-AED44952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F349D-31E4-44BD-BE8C-D3F5BA4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3BF7-4203-41BB-BA3D-C72B44B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7D7-4E3C-487C-AF5E-1DC2A37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1B71E-DA12-4183-8CC2-B2A6197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448F-0A34-4E26-8108-0F2E362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C28A-9CD7-43BC-AC7C-34BA37D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10CD-F039-47D3-A143-E73F09E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92008-C3D7-45D4-A6FD-D3B3BD2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7C70-8B1A-4D41-B705-DF581446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0FF8-FCB0-468F-9B9D-D208C057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08CA5-624D-42AC-B906-CF7472A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A7C1F-3A27-4FEA-BAAB-0E911801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0E7F8-573D-48CF-A18E-A6BFB17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8B8-92AA-4782-93E6-36F909C47039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ECA-1C2E-401F-8AF1-1FE6BB8A710C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06C9-DF3B-49A6-8594-39AD981DA23E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AF8-8368-4442-919A-0AF30B3B68D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E80-774A-4760-9221-99ECE3352151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/>
          <a:srcRect l="6640" t="19633" r="19361" b="3517"/>
          <a:stretch/>
        </p:blipFill>
        <p:spPr>
          <a:xfrm>
            <a:off x="7667640" y="0"/>
            <a:ext cx="147636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35E7-095B-40CC-831C-F0F61483A50A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0BC-63E1-4EA2-B97F-CF23E8B46553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157-5049-40BD-8B9C-504AF901164A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1A2-9491-423A-BFA7-024E61454CC2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FF9-E5B5-45FB-BD3D-347A0761ACC3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E4C7-A399-4D69-A45F-A1A1DB58153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0301-D827-475A-AC6A-7ED4750BA319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287280" y="981000"/>
            <a:ext cx="8569440" cy="1368360"/>
          </a:xfrm>
          <a:prstGeom prst="rect">
            <a:avLst/>
          </a:prstGeom>
          <a:gradFill rotWithShape="0">
            <a:gsLst>
              <a:gs pos="0">
                <a:srgbClr val="727ca3">
                  <a:alpha val="60000"/>
                </a:srgbClr>
              </a:gs>
              <a:gs pos="100000">
                <a:srgbClr val="727c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Subtitle 2"/>
          <p:cNvSpPr/>
          <p:nvPr/>
        </p:nvSpPr>
        <p:spPr>
          <a:xfrm>
            <a:off x="287280" y="2349360"/>
            <a:ext cx="8569440" cy="53352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olul </a:t>
            </a: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or în alimentaţia sănătoas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Title 6"/>
          <p:cNvSpPr/>
          <p:nvPr/>
        </p:nvSpPr>
        <p:spPr>
          <a:xfrm>
            <a:off x="1995480" y="134784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man Old Style"/>
              </a:rPr>
              <a:t>Vitaminel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Vitamine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Vitaminele reprezintă un grup de substanţe chimice, identificate în cea mai mare parte în secolul trecut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(1900-1999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Denumirea de </a:t>
            </a:r>
            <a:r>
              <a:rPr b="0" i="1" lang="ro-RO" sz="2400" spc="-1" strike="noStrike">
                <a:solidFill>
                  <a:srgbClr val="000000"/>
                </a:solidFill>
                <a:latin typeface="Gill Sans MT"/>
              </a:rPr>
              <a:t>vitamine</a:t>
            </a: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 evocă, vitalitatea şi viaţa. Trebuie să ştim că nici o reacţie chimică a organismului nostru n-ar putea avea loc fără vitam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Iniţial oamenii de ştiinţă au etichetat fiecare vitamină cu o literă, iar mai târziu, după descoperirea structurii lor, au primit toate o denumire ştiinţifică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Organismul uman are nevoie de vitamine în cantităţi foarte mici,  infinitezim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Aceste vitamine nu pot fi sintetizate de către organism, aşa că este necesar un aport zilnic prin alimentaţi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Categorii de vitamin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507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Se disting două categorii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e solubile în apă (sau hidrosolubile), care nu se stochează în organism. Acestea sunt vitaminele complexului B, PP (B3) şi C care se pierd de cele mai multe ori în apa de fierb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e solubile în grăsimi (liposolubile), care se stochează în organism. Printre acestea se află vitaminele A, D, E şi 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Depozitarea prea îndelungată, oxidarea la aer sau modul de preparare pot atrage după ele o mare pierdere de vitamina C din fructe şi legume. O preparare de scurtă durată la temperatură joasă presupune o pierdere mai mic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HIDR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976320" y="1217520"/>
          <a:ext cx="7191360" cy="4776840"/>
        </p:xfrm>
        <a:graphic>
          <a:graphicData uri="http://schemas.openxmlformats.org/drawingml/2006/table">
            <a:tbl>
              <a:tblPr/>
              <a:tblGrid>
                <a:gridCol w="1798560"/>
                <a:gridCol w="1797120"/>
                <a:gridCol w="1798560"/>
                <a:gridCol w="1797120"/>
              </a:tblGrid>
              <a:tr h="3517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rse aliment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incipalele functii indeplinite in organi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mptomele carentei vitami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5235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C (acid ascorbi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gume si fructe (In special spanac, tomate, brocoli, cartofi, capsuni, portocale si alte citr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antioxidant. Participa in multiple reactii biochimice din organism. Esentiala in cresterea cartilajului, oaselor si dinti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reste rezistenta la infectii si grabeste vindecarea tisula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moderat: gingivorag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scorbu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56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1 (tiami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 de porc, ficat, legume, cereale, n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metabolismului glucidic (cu rol in producerea ribozei) si a mai multor aminoaciz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ibuie la buna functionare a sistemului nerv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cetinirea cresterii, confuzie mentala, edem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Beri-Ber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6909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2 (riboflavi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carne, lapte si produse lactate (iaurt, branz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 organism se combina cu acidul fosforic si formeaza doua coenzime care actioneaza ca transportori de oxigen in cateva sisteme oxidative importante din organism. Rol in functionalitatea SNC, a aparatului vizual, tegumente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ziuni corneene, cheiloza (inflamatia si craparea comisurilor bucal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enta de riboflavina se asociaza frecvent cu deficitul de tiamina sau niac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56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PP sau B3, 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acina (acid nicotinic, nicotinamid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carne, peste, alune. Se poate sintetiza din triptofan (l1 mg de niacina din 600 mg de triptofan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de sinteza a lipidelor, de utilizare a energiei din carbohidrati si in procesul respiratiei tisul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trofic pentru tegumente, nerv, tract gastro-intestin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ziuni tegumentare, gastro-intestinale, anorexie, iritabilitate, vertij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pelag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HIDR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1413000"/>
          <a:ext cx="8229600" cy="3889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214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rse alime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incipalele functii indeplinite in organi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mptomele carentei vitamin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749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a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id pantotenic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rinichi, carne, galbenus de ou, legume (larg raspandita In aproape toate alimente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metabolismul energetic, fiind in principal incorporata in coenzima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este rar deoarece acidul pantotenic se gaseste in majoritatea aliment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6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6 (piridoxina, piridoxal, piridoxi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, peste, legume, cerea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numeroase reactii din metabolismul proteinelor si aminoacizi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ritabilitate, dermatita in jurul ochilor, varsaturi, convulsii, litiaza renal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749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8 (vitamina H sau b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otina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rinichi, galbenus de ou, lapte, legume proaspe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 de sintreza a lipidelor, in metabolismul aminoacizilor si glucid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oseala, depresie, greata, dermatita, dureri muscula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9295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a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id folic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legu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metabolismul aminoacizilor si proteinelor. Important in crestere. Important pentru maturarea eritrocit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aree, anemi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114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12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(ciano-cobalamin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, peste, oua, lapte si produse lact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de sinteza ale acizilor nucleic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igura crestere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trofic pentru sistemul nerv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mportanta pentru maturarea hematii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anemie pernicioasa, tulburari neurologice (demielinizarea fibrelor nervoase mari din maduva spinarii, in special din cordoanele posterioar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LIP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" y="1347840"/>
          <a:ext cx="8229600" cy="4100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retinol, carotenoiz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tinol: ficat, unt, lapte integral, branza, galbenu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vitamina A: morcovi, legume, dovleac, cartofi, 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panac,  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is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ol in procesele vizuale. Este necesara pentru cresterea normala a majoritatii celulelor din organism si in special a celor epitelia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ol in procesul de crestere a oaselor si dinti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ficit moderat: hemeralopie, descuamare tegumentara, acnee, diaree, infectii gastrointestinale, incetinirea crester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ficit sever: xeroftalmi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88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D2 - ergocalciferol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3 - colecalcifer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tura de peste, galbenus, o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ntetizata la nivelul tegumentului sub actiunea luminii sol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in metabolismul fosfocalcic (creste absorbtia intestinala a calciului; rol antirahitic la copil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copii: rahitis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adulti: osteomalaci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88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a E (tocofer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lei vegetal, margarina, legume (In special spanac, salata), boabe de cereale, galbenus, unt, fic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antioxidant. Rol structural pentru mentinerea integritatii membranei celulare. Efecte antiinflamato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apare aproape exclusiv in inanitie. Posibil anemie, la copiii cu greutate mica la nast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027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K1 - fitokinona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2 – farnokinona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3 - menadio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bricată de bacteriile din col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anac, varza, urzici, brocoli, 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pindă,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garina, uleiuri vegetale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, ouă, car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vine in procesul de coagulare a sangelui. Sinteza factorilor II, VII, IX, X la nivel hepatic este dependenta de vitamina 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apare foarte rar deoarece vitamina K este sintetizata continuu de catre bacteriile din tractul intestinal. La nou nascuti, care nu au inca flora bacteriana capabila sa sintetizeze vitamina K apare deficitul datorita lipsei din alimentatie. Deficitul poate apare In urma malabsorbtiei lipidelor din tractul gastrointestin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Cum se evită pierderea vitaminelor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Folosi</a:t>
            </a: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ţi produse foarte proaspete în locul alimentelor care au fost depozit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Preferaţi fructele şi legumele crude (în afara cazurilor de intoleranţă digestivă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Evitaţi prepararea prelungită la temperatură înaltă. Gătiţi produsele la temperatură scăzută şi, mai ales, la abur slab (în special pentru legum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Evitaţi resturile de mâncare care zac în frigider şi vor fi reîncălz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Reduceţi cantităţile, dar alegeţi calitatea, preferând produsele biologi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Fripturile şi grătarele păstrează mai mult vitamine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Produsele congelate sunt mai bogate în vitamine decât conserve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Nu expuneţi laptele la lumin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Alegeţi o alimentaţie sănătoasă !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6" name="Content Placeholder 6" descr=""/>
          <p:cNvPicPr/>
          <p:nvPr/>
        </p:nvPicPr>
        <p:blipFill>
          <a:blip r:embed="rId1"/>
          <a:stretch/>
        </p:blipFill>
        <p:spPr>
          <a:xfrm>
            <a:off x="1157400" y="1430280"/>
            <a:ext cx="6829200" cy="45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8:26:50Z</dcterms:created>
  <dc:creator>Gelu</dc:creator>
  <dc:description/>
  <dc:language>en-US</dc:language>
  <cp:lastModifiedBy>Gelu</cp:lastModifiedBy>
  <dcterms:modified xsi:type="dcterms:W3CDTF">2012-01-29T10:51:18Z</dcterms:modified>
  <cp:revision>22</cp:revision>
  <dc:subject/>
  <dc:title>Vitaminele</dc:title>
</cp:coreProperties>
</file>